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169800">
            <a:off x="10896480" y="797364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DETearly722_Sml"/>
          <p:cNvPicPr/>
          <p:nvPr/>
        </p:nvPicPr>
        <p:blipFill>
          <a:blip r:embed="rId4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0" descr="DETearly805_Sml"/>
          <p:cNvPicPr/>
          <p:nvPr/>
        </p:nvPicPr>
        <p:blipFill>
          <a:blip r:embed="rId5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DETearly281_Sml"/>
          <p:cNvPicPr/>
          <p:nvPr/>
        </p:nvPicPr>
        <p:blipFill>
          <a:blip r:embed="rId6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7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6000"/>
          </a:bodyPr>
          <a:p>
            <a:pPr marL="467640" indent="-4676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Observing an identifying reading behaviours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Guided Reading Module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90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e World of Literacy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chool Literacy Plans Review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Picture Story Book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185560" indent="-312120">
              <a:spcBef>
                <a:spcPts val="476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9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50880" y="1525680"/>
            <a:ext cx="117028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acher prompts assist students 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in text orientation and activate prior knowledge, connections and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n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rediction skills and understanding of the reading and writing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ther students to help solv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 ideas of the aut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questions a reader asks whe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Re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50880" y="2009880"/>
            <a:ext cx="1170288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dequate variety of texts in multiple copies - a set of 6 copies and an additional copy for the teach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mall group organisation &amp; tasks are  clearly defined and visible e.g. management boa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20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85880" y="144936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aching fo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demand: Adaptive Lin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 formativ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ependent Reading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How Do We Select Appropriate Text?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50880" y="227664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instructional focus and knowledge of students i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needs to be appropriate to students’ learning needs, backgrounds, interests,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may have links to current top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a new text for students, but may be re-visited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at an appropriate level: no more than 5-10 difficulties in every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oto of GR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Question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33240" y="1220760"/>
            <a:ext cx="58690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iteral Ques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here. The answer is clearly in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Inferenti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and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Knowledge + Text C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valuativ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own knowledge plus what the author h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0080" y="1144080"/>
            <a:ext cx="11052360" cy="1938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STRALIA’S PRINCIPLE EXPORT IS NOW COAL.”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014480" y="312588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ustralia’s main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ain export is co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824360" y="4726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al our only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has other expo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 has not always been our main ex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786880" y="2744640"/>
            <a:ext cx="383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need to export to earn money from overseas. “Australia, the lucky country”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UIDED READING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- SNOOK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at are the other students doin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orking independentl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orking in groups on reading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ell planned activities that reinforce prior teaching focus, literacy strategies and awaren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1130400" y="1359000"/>
            <a:ext cx="109346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6300"/>
            </a:br>
            <a:r>
              <a:rPr b="0" i="1" lang="en-US" sz="6300" spc="-1" strike="noStrike">
                <a:solidFill>
                  <a:srgbClr val="000000"/>
                </a:solidFill>
                <a:latin typeface="Arial"/>
              </a:rPr>
              <a:t>Does it look different across year levels?</a:t>
            </a:r>
            <a:br>
              <a:rPr sz="6300"/>
            </a:br>
            <a:br>
              <a:rPr sz="14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Identifying Reading Behaviour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ING STO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6720" y="1395360"/>
            <a:ext cx="11703240" cy="75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Breakthrough  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ullan Hill and Crev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teracy Teaching and Learning in Victorian Schools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[Paper No 9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eaching for Comprehending  and Fluency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Guided Reading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Effective Literacy Practice 1-4 and 5-8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NZ Ministry of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Victorian Essential Learning Standards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EEC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90720" y="281952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atching onto Comprehension- Pears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NAPLAN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IM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The World of Literacy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NAPLA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EOI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hort term literacy strateg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EECD Key Characteristics Documen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i Snowbal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Blah, blah, blah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at’s HOT and what’s NOT?</a:t>
            </a:r>
            <a:br>
              <a:rPr sz="4300"/>
            </a:b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onsider your school literacy plan</a:t>
            </a:r>
            <a:br>
              <a:rPr sz="4300"/>
            </a:b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90080" y="2287080"/>
            <a:ext cx="11053800" cy="6324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hat’s HOT in your school right now? Are you on track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hat’s NOT hot in your school right now? What do you need to do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onsiderations for 2010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GUID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166760" y="320184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ddon Malle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5FBF-F7C9-48DC-96A5-764BA8E6A990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1776240" y="693576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37960" y="1218960"/>
            <a:ext cx="11053800" cy="2058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Donut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or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Inside Outside Line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246320" y="4371840"/>
            <a:ext cx="10350360" cy="2449800"/>
          </a:xfrm>
          <a:prstGeom prst="roundRect">
            <a:avLst>
              <a:gd name="adj" fmla="val 15000"/>
            </a:avLst>
          </a:prstGeom>
          <a:solidFill>
            <a:srgbClr val="ff0000"/>
          </a:solidFill>
          <a:ln w="255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GUIDED READING? WHAT IS ITS PURPOS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students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their way purposefully through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ommon text, working collaborative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8618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and regroup students using ongoing observation and assess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ly plan strategic reading instruction and explicitly teach small groups of stud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exts appropriate for the  common instructional needs of the gro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ctive engagement in thoughtful group discu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</a:rPr>
              <a:t>Time scheduled daily - each group approx. 20 min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23:42:49Z</dcterms:created>
  <dc:creator>Cato Purnell</dc:creator>
  <dc:description/>
  <dc:language>en-US</dc:language>
  <cp:lastModifiedBy>Kylie Lipscombe</cp:lastModifiedBy>
  <dcterms:modified xsi:type="dcterms:W3CDTF">2009-10-07T03:27:47Z</dcterms:modified>
  <cp:revision>51</cp:revision>
  <dc:subject/>
  <dc:title>PowerPoint Presentation</dc:title>
</cp:coreProperties>
</file>